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platinum coils in a plasticized medial cerebral artery aneurysm is shown by this arbitrarily chosen 250-μm-thick section from case 1 (see Table 1). The scale can be extrapolated from the coil diameter of 0.010 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emplary short-term results from case 1, in which death occurred 5 days after treatment (see Table 1).A, Angiogram obtained before treatment of a medial cerebral artery aneurysm.B, Angiogram obtained after GDC treatment of a medial cerebral artery aneurysm.C, Histologic 5- to 10-μm-thick section of plasticized aneurysm 5 days after treatment depicts a thrombus consisting of fibrin and erythrocytes. The scale can be extrapolated from the coil diameter of 0.01 in.D, ×10 magnification of the inset shown in C depicts fibrin clotting and erythrocytes (arrows).E, ×40 magnification of the inset shown in D depicts single macrophages (arr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emplary mid-term results from case 3, in which death occurred 13 days after treatment (see Table 1).A, Angiogram obtained before treatment of an anterior communicating artery aneurysm.B, Angiogram obtained after GDC treatment of an anterior communicating artery aneurysm.C, Histologic 5- to 10-μm-thick section of plasticized aneurysm 13 days after treatment shows thrombus extending into the parent vessel (arrows). The scale can be extrapolated from the coil diameter of 0.010 in.D, ×20 magnification of the inset in shown in C depicts that the thrombus projecting into the feeding vessel is partially coated with endothelium (arrows).E, ×100 magnification of the area in C indicated by the dashed lines depicts foamy giant cells between the platinum coils (arr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emplary long-term results from case 6, in which death occurred 272 days after treatment (Table 1).A, Angiogram obtained before treatment of a basilar tip aneurysm.B, Angiogram obtained after treatment of a basilar tip aneurysm.C, Histologic 5- to 10-μm-thick section of plasticized aneurysm depicts scar-like connective tissue in the former aneurysm lumen 272 days after treatment. The scale can be extrapolated from the two coil diameters of 0.010 and 0.015 in.D, ×20 magnification of the red inset shown in C depicts vascularized connecting tissue surrounding platinum coils (arrow).E, ×40 magnification of the white inset shown in C depicts foreign body giant cells with multiple nuclei adjacent to coils (arrows).F, ×10 magnification of the area indicated by the dashed lines depicts scar tissue covered by a layer of long slender cells, resembling endothelium, demarcating the aneurysm orifice against the parent vessel (arrow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Histological Findings in Ruptured Aneurysms Treated with GDCs: Six Examples at Varying Times after Treatmen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hristoph Groden, Christian Hagel, Guenter Delling, and Hermann Zeum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4(4):579-58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platinum coils in a plasticized medial cerebral artery aneurysm is shown by this arbitrarily chosen 250-μm-thick section from case 1 (see Table 1).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1536840" y="1079640"/>
            <a:ext cx="7010280" cy="5394240"/>
          </a:xfrm>
          <a:prstGeom prst="rect">
            <a:avLst/>
          </a:prstGeom>
          <a:ln w="0">
            <a:noFill/>
          </a:ln>
        </p:spPr>
      </p:pic>
      <p:sp>
        <p:nvSpPr>
          <p:cNvPr id="49" name=""/>
          <p:cNvSpPr/>
          <p:nvPr/>
        </p:nvSpPr>
        <p:spPr>
          <a:xfrm>
            <a:off x="153684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 Groden et al. AJNR Am J Neuroradiol 2003;24:579-58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emplary short-term results from case 1, in which death occurred 5 days after treatment (see Table 1).A, Angiogram obtained before treatment of a medial cerebral artery aneurysm.B, Angiogram obtained after GDC treatment of a medial cerebral artery aneurysm...</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1000080" y="1079640"/>
            <a:ext cx="8086680" cy="5394240"/>
          </a:xfrm>
          <a:prstGeom prst="rect">
            <a:avLst/>
          </a:prstGeom>
          <a:ln w="0">
            <a:noFill/>
          </a:ln>
        </p:spPr>
      </p:pic>
      <p:sp>
        <p:nvSpPr>
          <p:cNvPr id="54" name=""/>
          <p:cNvSpPr/>
          <p:nvPr/>
        </p:nvSpPr>
        <p:spPr>
          <a:xfrm>
            <a:off x="1000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 Groden et al. AJNR Am J Neuroradiol 2003;24:579-58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Society of Neuroradiolog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emplary mid-term results from case 3, in which death occurred 13 days after treatment (see Table 1).A, Angiogram obtained before treatment of an anterior communicating artery aneurysm.B, Angiogram obtained after GDC treatment of an anterior communicating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78480" y="6616800"/>
            <a:ext cx="3221280" cy="698400"/>
          </a:xfrm>
          <a:prstGeom prst="rect">
            <a:avLst/>
          </a:prstGeom>
          <a:ln w="0">
            <a:noFill/>
          </a:ln>
        </p:spPr>
      </p:pic>
      <p:pic>
        <p:nvPicPr>
          <p:cNvPr id="58" name="" descr=""/>
          <p:cNvPicPr/>
          <p:nvPr/>
        </p:nvPicPr>
        <p:blipFill>
          <a:blip r:embed="rId2"/>
          <a:stretch/>
        </p:blipFill>
        <p:spPr>
          <a:xfrm>
            <a:off x="1017720" y="1079640"/>
            <a:ext cx="8049960" cy="5394240"/>
          </a:xfrm>
          <a:prstGeom prst="rect">
            <a:avLst/>
          </a:prstGeom>
          <a:ln w="0">
            <a:noFill/>
          </a:ln>
        </p:spPr>
      </p:pic>
      <p:sp>
        <p:nvSpPr>
          <p:cNvPr id="59" name=""/>
          <p:cNvSpPr/>
          <p:nvPr/>
        </p:nvSpPr>
        <p:spPr>
          <a:xfrm>
            <a:off x="10177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 Groden et al. AJNR Am J Neuroradiol 2003;24:579-58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Society of Neuroradiolog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emplary long-term results from case 6, in which death occurred 272 days after treatment (Table 1).A, Angiogram obtained before treatment of a basilar tip aneurysm.B, Angiogram obtained after treatment of a basilar tip aneurysm.C, Histologic 5- to 10-μm-th...</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78480" y="6616800"/>
            <a:ext cx="3221280" cy="698400"/>
          </a:xfrm>
          <a:prstGeom prst="rect">
            <a:avLst/>
          </a:prstGeom>
          <a:ln w="0">
            <a:noFill/>
          </a:ln>
        </p:spPr>
      </p:pic>
      <p:pic>
        <p:nvPicPr>
          <p:cNvPr id="63" name="" descr=""/>
          <p:cNvPicPr/>
          <p:nvPr/>
        </p:nvPicPr>
        <p:blipFill>
          <a:blip r:embed="rId2"/>
          <a:stretch/>
        </p:blipFill>
        <p:spPr>
          <a:xfrm>
            <a:off x="1017720" y="1079640"/>
            <a:ext cx="8049960" cy="5394240"/>
          </a:xfrm>
          <a:prstGeom prst="rect">
            <a:avLst/>
          </a:prstGeom>
          <a:ln w="0">
            <a:noFill/>
          </a:ln>
        </p:spPr>
      </p:pic>
      <p:sp>
        <p:nvSpPr>
          <p:cNvPr id="64" name=""/>
          <p:cNvSpPr/>
          <p:nvPr/>
        </p:nvSpPr>
        <p:spPr>
          <a:xfrm>
            <a:off x="10177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hristoph Groden et al. AJNR Am J Neuroradiol 2003;24:579-58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