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tatistical parametric maps show specific pixels that indicate a negative correlation between aging and gray matter loss in healthy subjects. The gray matter loss in the hypothalamic region, perisylvian cortices, parahippocampal gyri, and pre- and postcentral gyri are significantly and negatively correlated with age (P &lt; .05, corrected). L indicates left; R, righ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 Statistical parametric maps show comparison of patients with early-onset AD with age-matched healthy volunteers (the younger control subjects). Highlighted areas are regions of significant gray matter loss in the patients with early-onset AD compared with age-matched control subjects at a threshold of P &lt; .001, uncorrected. Bilateral medial temporal lobes, inferior parietal lobules, precuneus, and perisylvian cortices and the right inferior frontal gyrus and bilateral cingulate cortex are highlighted. L indicates left; R, right.B, Statistical parametric maps show comparison of patients with late-onset AD and age-matched healthy volunteers (the older control subjects). Highlighted areas are regions of significant gray matter loss in patients with late-onset AD compared with age-matched control subjects at a threshold of P &lt; .001, uncorrected. Bilateral medial temporal cortices are highlighted. L indicates left; R, righ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tatistical parametric maps show comparison of patients with early-onset AD and those with late-onset AD. Highlighted areas are regions of significant decreased density in patients with early-onset AD compared with those with late-onset AD at a threshold of P &lt; .001, uncorrected. The gray matter densities in the bilateral precuneus, left parietal cortex, right middle temporal gyrus, and left fusiform gyrus were lower in the early-onset group than in the late-onset group. L indicates left; R, righ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ROC curves for patients with AD versus healthy subjects in the younger and older groups. Note the great differences in diagnostic performance between the younger and older groups. The Az value (0.94359) for early-onset AD was larger than that for late-onset AD (Az = 0.9018). True-positive fraction indicates sensitivity; false-positive fraction, 1 − specificity.</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5"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 and B, Conventional MR images (A) and Z score images (B) obtained in a 54-year-old patient with early-onset AD (MMSE score = 23). Mild right parietal lobular atrophy can be detected by visual inspection of the conventional T1-weighted images; however, the degree of atrophy was not estimated. By using the Z score map, the region and degree of atrophy can be detected easily, enabling this case to be diagnosed as AD. Areas with Z scores greater than 2 (indicated by rainbow color scale) in this subject were overlaid on the prototypic early-onset AD template map (overlaid on normal MR images with red area). L indicates left; R, righ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 and B, Conventional MR images (A) and Z score images (B) obtained in a 57-year-old healthy subject (MMSE score = 30). No atrophy is apparent on the MR images, and there are no areas with Z score greater than 2 overlaid on the prototypic early-onset AD template map. L indicates left; R, righ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 and B, Conventional MR images (A) and Z score images (B) obtained in a 73-year-old patient with late-onset AD (MMSE score = 23). Medial temporal atrophy can be detected by visual inspection of the conventional T1-weighted images. By using the Z score map, the region and degree of atrophy can be detected easily; note that the left hippocampal atrophy is stronger than the right. L indicates left; R, righ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 and B, Conventional MR images (A) and Z score images (B) in a 73-year-old healthy control subject (MMSE score = 30). The left parietal lobe seems to be atrophied on the conventional T1-weighted images, although the Z score map demonstrates that there is no significantly atrophied are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Voxel-Based Morphometric Comparison Between Early- and Late-Onset Mild Alzheimer’s Disease and Assessment of Diagnostic Performance of Z Score Images</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Kazunari Ishii, Takashi Kawachi, Hiroki Sasaki, Atsushi K Kono, Tetsuya Fukuda, Yoshio Kojima, and Etsuro Mori</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Am. J. Neuroradiol.</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26(2):333-340</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February 11, 2005</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5 by American Society of Neuroradiology</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6378480" y="6616800"/>
            <a:ext cx="3221280" cy="6984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tatistical parametric maps show specific pixels that indicate a negative correlation between aging and gray matter loss in healthy subjects.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6378480" y="6616800"/>
            <a:ext cx="3221280" cy="698400"/>
          </a:xfrm>
          <a:prstGeom prst="rect">
            <a:avLst/>
          </a:prstGeom>
          <a:ln w="0">
            <a:noFill/>
          </a:ln>
        </p:spPr>
      </p:pic>
      <p:pic>
        <p:nvPicPr>
          <p:cNvPr id="48" name="" descr=""/>
          <p:cNvPicPr/>
          <p:nvPr/>
        </p:nvPicPr>
        <p:blipFill>
          <a:blip r:embed="rId2"/>
          <a:stretch/>
        </p:blipFill>
        <p:spPr>
          <a:xfrm>
            <a:off x="2089080" y="1079640"/>
            <a:ext cx="5907240" cy="5394240"/>
          </a:xfrm>
          <a:prstGeom prst="rect">
            <a:avLst/>
          </a:prstGeom>
          <a:ln w="0">
            <a:noFill/>
          </a:ln>
        </p:spPr>
      </p:pic>
      <p:sp>
        <p:nvSpPr>
          <p:cNvPr id="49" name=""/>
          <p:cNvSpPr/>
          <p:nvPr/>
        </p:nvSpPr>
        <p:spPr>
          <a:xfrm>
            <a:off x="208908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Kazunari Ishii et al. AJNR Am J Neuroradiol 2005;26:333-340</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5 by American Society of Neuroradiology</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 Statistical parametric maps show comparison of patients with early-onset AD with age-matched healthy volunteers (the younger control subjects).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6378480" y="6616800"/>
            <a:ext cx="3221280" cy="698400"/>
          </a:xfrm>
          <a:prstGeom prst="rect">
            <a:avLst/>
          </a:prstGeom>
          <a:ln w="0">
            <a:noFill/>
          </a:ln>
        </p:spPr>
      </p:pic>
      <p:pic>
        <p:nvPicPr>
          <p:cNvPr id="53" name="" descr=""/>
          <p:cNvPicPr/>
          <p:nvPr/>
        </p:nvPicPr>
        <p:blipFill>
          <a:blip r:embed="rId2"/>
          <a:stretch/>
        </p:blipFill>
        <p:spPr>
          <a:xfrm>
            <a:off x="739800" y="1695600"/>
            <a:ext cx="8604360" cy="4160520"/>
          </a:xfrm>
          <a:prstGeom prst="rect">
            <a:avLst/>
          </a:prstGeom>
          <a:ln w="0">
            <a:noFill/>
          </a:ln>
        </p:spPr>
      </p:pic>
      <p:sp>
        <p:nvSpPr>
          <p:cNvPr id="54" name=""/>
          <p:cNvSpPr/>
          <p:nvPr/>
        </p:nvSpPr>
        <p:spPr>
          <a:xfrm>
            <a:off x="7398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Kazunari Ishii et al. AJNR Am J Neuroradiol 2005;26:333-340</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5 by American Society of Neuroradiology</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tatistical parametric maps show comparison of patients with early-onset AD and those with late-onset AD. Highlighted areas are regions of significant decreased density in patients with early-onset AD compared with those with late-onset AD at a threshold of...</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6378480" y="6616800"/>
            <a:ext cx="3221280" cy="698400"/>
          </a:xfrm>
          <a:prstGeom prst="rect">
            <a:avLst/>
          </a:prstGeom>
          <a:ln w="0">
            <a:noFill/>
          </a:ln>
        </p:spPr>
      </p:pic>
      <p:pic>
        <p:nvPicPr>
          <p:cNvPr id="58" name="" descr=""/>
          <p:cNvPicPr/>
          <p:nvPr/>
        </p:nvPicPr>
        <p:blipFill>
          <a:blip r:embed="rId2"/>
          <a:stretch/>
        </p:blipFill>
        <p:spPr>
          <a:xfrm>
            <a:off x="2089080" y="1079640"/>
            <a:ext cx="5907240" cy="5394240"/>
          </a:xfrm>
          <a:prstGeom prst="rect">
            <a:avLst/>
          </a:prstGeom>
          <a:ln w="0">
            <a:noFill/>
          </a:ln>
        </p:spPr>
      </p:pic>
      <p:sp>
        <p:nvSpPr>
          <p:cNvPr id="59" name=""/>
          <p:cNvSpPr/>
          <p:nvPr/>
        </p:nvSpPr>
        <p:spPr>
          <a:xfrm>
            <a:off x="208908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Kazunari Ishii et al. AJNR Am J Neuroradiol 2005;26:333-340</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5 by American Society of Neuroradiology</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ROC curves for patients with AD versus healthy subjects in the younger and older groups.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6378480" y="6616800"/>
            <a:ext cx="3221280" cy="698400"/>
          </a:xfrm>
          <a:prstGeom prst="rect">
            <a:avLst/>
          </a:prstGeom>
          <a:ln w="0">
            <a:noFill/>
          </a:ln>
        </p:spPr>
      </p:pic>
      <p:pic>
        <p:nvPicPr>
          <p:cNvPr id="63" name="" descr=""/>
          <p:cNvPicPr/>
          <p:nvPr/>
        </p:nvPicPr>
        <p:blipFill>
          <a:blip r:embed="rId2"/>
          <a:stretch/>
        </p:blipFill>
        <p:spPr>
          <a:xfrm>
            <a:off x="2131920" y="1079640"/>
            <a:ext cx="5823000" cy="5394240"/>
          </a:xfrm>
          <a:prstGeom prst="rect">
            <a:avLst/>
          </a:prstGeom>
          <a:ln w="0">
            <a:noFill/>
          </a:ln>
        </p:spPr>
      </p:pic>
      <p:sp>
        <p:nvSpPr>
          <p:cNvPr id="64" name=""/>
          <p:cNvSpPr/>
          <p:nvPr/>
        </p:nvSpPr>
        <p:spPr>
          <a:xfrm>
            <a:off x="213192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Kazunari Ishii et al. AJNR Am J Neuroradiol 2005;26:333-340</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5 by American Society of Neuroradiology</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 and B, Conventional MR images (A) and Z score images (B) obtained in a 54-year-old patient with early-onset AD (MMSE score = 23).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6378480" y="6616800"/>
            <a:ext cx="3221280" cy="698400"/>
          </a:xfrm>
          <a:prstGeom prst="rect">
            <a:avLst/>
          </a:prstGeom>
          <a:ln w="0">
            <a:noFill/>
          </a:ln>
        </p:spPr>
      </p:pic>
      <p:pic>
        <p:nvPicPr>
          <p:cNvPr id="68" name="" descr=""/>
          <p:cNvPicPr/>
          <p:nvPr/>
        </p:nvPicPr>
        <p:blipFill>
          <a:blip r:embed="rId2"/>
          <a:stretch/>
        </p:blipFill>
        <p:spPr>
          <a:xfrm>
            <a:off x="739800" y="1833480"/>
            <a:ext cx="8604360" cy="3884760"/>
          </a:xfrm>
          <a:prstGeom prst="rect">
            <a:avLst/>
          </a:prstGeom>
          <a:ln w="0">
            <a:noFill/>
          </a:ln>
        </p:spPr>
      </p:pic>
      <p:sp>
        <p:nvSpPr>
          <p:cNvPr id="69" name=""/>
          <p:cNvSpPr/>
          <p:nvPr/>
        </p:nvSpPr>
        <p:spPr>
          <a:xfrm>
            <a:off x="7398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Kazunari Ishii et al. AJNR Am J Neuroradiol 2005;26:333-340</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5 by American Society of Neuroradiology</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 and B, Conventional MR images (A) and Z score images (B) obtained in a 57-year-old healthy subject (MMSE score = 30). </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6378480" y="6616800"/>
            <a:ext cx="3221280" cy="698400"/>
          </a:xfrm>
          <a:prstGeom prst="rect">
            <a:avLst/>
          </a:prstGeom>
          <a:ln w="0">
            <a:noFill/>
          </a:ln>
        </p:spPr>
      </p:pic>
      <p:pic>
        <p:nvPicPr>
          <p:cNvPr id="73" name="" descr=""/>
          <p:cNvPicPr/>
          <p:nvPr/>
        </p:nvPicPr>
        <p:blipFill>
          <a:blip r:embed="rId2"/>
          <a:stretch/>
        </p:blipFill>
        <p:spPr>
          <a:xfrm>
            <a:off x="739800" y="1833480"/>
            <a:ext cx="8604360" cy="3884760"/>
          </a:xfrm>
          <a:prstGeom prst="rect">
            <a:avLst/>
          </a:prstGeom>
          <a:ln w="0">
            <a:noFill/>
          </a:ln>
        </p:spPr>
      </p:pic>
      <p:sp>
        <p:nvSpPr>
          <p:cNvPr id="74" name=""/>
          <p:cNvSpPr/>
          <p:nvPr/>
        </p:nvSpPr>
        <p:spPr>
          <a:xfrm>
            <a:off x="7398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Kazunari Ishii et al. AJNR Am J Neuroradiol 2005;26:333-340</a:t>
            </a:r>
            <a:endParaRPr b="0" lang="en-US" sz="1200" spc="-1" strike="noStrike">
              <a:solidFill>
                <a:srgbClr val="000000"/>
              </a:solidFill>
              <a:latin typeface="Times New Roman"/>
            </a:endParaRPr>
          </a:p>
        </p:txBody>
      </p:sp>
      <p:sp>
        <p:nvSpPr>
          <p:cNvPr id="7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5 by American Society of Neuroradiology</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 and B, Conventional MR images (A) and Z score images (B) obtained in a 73-year-old patient with late-onset AD (MMSE score = 23). </a:t>
            </a:r>
            <a:endParaRPr b="0" lang="en-US" sz="1600" spc="-1" strike="noStrike">
              <a:solidFill>
                <a:srgbClr val="000000"/>
              </a:solidFill>
              <a:latin typeface="Times New Roman"/>
            </a:endParaRPr>
          </a:p>
        </p:txBody>
      </p:sp>
      <p:pic>
        <p:nvPicPr>
          <p:cNvPr id="77" name="" descr=""/>
          <p:cNvPicPr/>
          <p:nvPr/>
        </p:nvPicPr>
        <p:blipFill>
          <a:blip r:embed="rId1"/>
          <a:stretch/>
        </p:blipFill>
        <p:spPr>
          <a:xfrm>
            <a:off x="6378480" y="6616800"/>
            <a:ext cx="3221280" cy="698400"/>
          </a:xfrm>
          <a:prstGeom prst="rect">
            <a:avLst/>
          </a:prstGeom>
          <a:ln w="0">
            <a:noFill/>
          </a:ln>
        </p:spPr>
      </p:pic>
      <p:pic>
        <p:nvPicPr>
          <p:cNvPr id="78" name="" descr=""/>
          <p:cNvPicPr/>
          <p:nvPr/>
        </p:nvPicPr>
        <p:blipFill>
          <a:blip r:embed="rId2"/>
          <a:stretch/>
        </p:blipFill>
        <p:spPr>
          <a:xfrm>
            <a:off x="739800" y="1833480"/>
            <a:ext cx="8604360" cy="3884760"/>
          </a:xfrm>
          <a:prstGeom prst="rect">
            <a:avLst/>
          </a:prstGeom>
          <a:ln w="0">
            <a:noFill/>
          </a:ln>
        </p:spPr>
      </p:pic>
      <p:sp>
        <p:nvSpPr>
          <p:cNvPr id="79" name=""/>
          <p:cNvSpPr/>
          <p:nvPr/>
        </p:nvSpPr>
        <p:spPr>
          <a:xfrm>
            <a:off x="7398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Kazunari Ishii et al. AJNR Am J Neuroradiol 2005;26:333-340</a:t>
            </a:r>
            <a:endParaRPr b="0" lang="en-US" sz="1200" spc="-1" strike="noStrike">
              <a:solidFill>
                <a:srgbClr val="000000"/>
              </a:solidFill>
              <a:latin typeface="Times New Roman"/>
            </a:endParaRPr>
          </a:p>
        </p:txBody>
      </p:sp>
      <p:sp>
        <p:nvSpPr>
          <p:cNvPr id="8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5 by American Society of Neuroradiology</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 and B, Conventional MR images (A) and Z score images (B) in a 73-year-old healthy control subject (MMSE score = 30). </a:t>
            </a:r>
            <a:endParaRPr b="0" lang="en-US" sz="1600" spc="-1" strike="noStrike">
              <a:solidFill>
                <a:srgbClr val="000000"/>
              </a:solidFill>
              <a:latin typeface="Times New Roman"/>
            </a:endParaRPr>
          </a:p>
        </p:txBody>
      </p:sp>
      <p:pic>
        <p:nvPicPr>
          <p:cNvPr id="82" name="" descr=""/>
          <p:cNvPicPr/>
          <p:nvPr/>
        </p:nvPicPr>
        <p:blipFill>
          <a:blip r:embed="rId1"/>
          <a:stretch/>
        </p:blipFill>
        <p:spPr>
          <a:xfrm>
            <a:off x="6378480" y="6616800"/>
            <a:ext cx="3221280" cy="698400"/>
          </a:xfrm>
          <a:prstGeom prst="rect">
            <a:avLst/>
          </a:prstGeom>
          <a:ln w="0">
            <a:noFill/>
          </a:ln>
        </p:spPr>
      </p:pic>
      <p:pic>
        <p:nvPicPr>
          <p:cNvPr id="83" name="" descr=""/>
          <p:cNvPicPr/>
          <p:nvPr/>
        </p:nvPicPr>
        <p:blipFill>
          <a:blip r:embed="rId2"/>
          <a:stretch/>
        </p:blipFill>
        <p:spPr>
          <a:xfrm>
            <a:off x="739800" y="1833480"/>
            <a:ext cx="8604360" cy="3884760"/>
          </a:xfrm>
          <a:prstGeom prst="rect">
            <a:avLst/>
          </a:prstGeom>
          <a:ln w="0">
            <a:noFill/>
          </a:ln>
        </p:spPr>
      </p:pic>
      <p:sp>
        <p:nvSpPr>
          <p:cNvPr id="84" name=""/>
          <p:cNvSpPr/>
          <p:nvPr/>
        </p:nvSpPr>
        <p:spPr>
          <a:xfrm>
            <a:off x="7398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Kazunari Ishii et al. AJNR Am J Neuroradiol 2005;26:333-340</a:t>
            </a:r>
            <a:endParaRPr b="0" lang="en-US" sz="1200" spc="-1" strike="noStrike">
              <a:solidFill>
                <a:srgbClr val="000000"/>
              </a:solidFill>
              <a:latin typeface="Times New Roman"/>
            </a:endParaRPr>
          </a:p>
        </p:txBody>
      </p:sp>
      <p:sp>
        <p:nvSpPr>
          <p:cNvPr id="8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5 by American Society of Neuroradiology</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