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DC (A) and FA (B) images in axial plane with region of interest placed in the genu and splenium of the corpus callosum.C and D, Region of interest placed in the frontal white matter on ADC and FA.E and F, Region of interest placed in the hippocamp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B Graphic presentation of data found in (Table 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iffusion-Tensor MR Imaging of the Brain in Human Immunodeficiency Virus–Positive Patient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jda M. Thurnher, Mauricio Castillo, Alfred Stadler, Armin Rieger, Brigitte Schmid, and Pia C. Sundgre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Neurorad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9):2275-228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1,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78480" y="6616800"/>
            <a:ext cx="322128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DC (A) and FA (B) images in axial plane with region of interest placed in the genu and splenium of the corpus callosum.C and D, Region of interest placed in the frontal white matter on ADC and FA.E and F, Region of interest placed in the hippocampus.</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78480" y="6616800"/>
            <a:ext cx="3221280" cy="698400"/>
          </a:xfrm>
          <a:prstGeom prst="rect">
            <a:avLst/>
          </a:prstGeom>
          <a:ln w="0">
            <a:noFill/>
          </a:ln>
        </p:spPr>
      </p:pic>
      <p:pic>
        <p:nvPicPr>
          <p:cNvPr id="48" name="" descr=""/>
          <p:cNvPicPr/>
          <p:nvPr/>
        </p:nvPicPr>
        <p:blipFill>
          <a:blip r:embed="rId2"/>
          <a:stretch/>
        </p:blipFill>
        <p:spPr>
          <a:xfrm>
            <a:off x="1639800" y="1079640"/>
            <a:ext cx="6807240" cy="5394240"/>
          </a:xfrm>
          <a:prstGeom prst="rect">
            <a:avLst/>
          </a:prstGeom>
          <a:ln w="0">
            <a:noFill/>
          </a:ln>
        </p:spPr>
      </p:pic>
      <p:sp>
        <p:nvSpPr>
          <p:cNvPr id="49" name=""/>
          <p:cNvSpPr/>
          <p:nvPr/>
        </p:nvSpPr>
        <p:spPr>
          <a:xfrm>
            <a:off x="16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jda M. Thurnher et al. AJNR Am J Neuroradiol 2005;26:2275-228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B Graphic presentation of data found in (Table 1).</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78480" y="6616800"/>
            <a:ext cx="3221280" cy="698400"/>
          </a:xfrm>
          <a:prstGeom prst="rect">
            <a:avLst/>
          </a:prstGeom>
          <a:ln w="0">
            <a:noFill/>
          </a:ln>
        </p:spPr>
      </p:pic>
      <p:pic>
        <p:nvPicPr>
          <p:cNvPr id="53" name="" descr=""/>
          <p:cNvPicPr/>
          <p:nvPr/>
        </p:nvPicPr>
        <p:blipFill>
          <a:blip r:embed="rId2"/>
          <a:stretch/>
        </p:blipFill>
        <p:spPr>
          <a:xfrm>
            <a:off x="739800" y="1568520"/>
            <a:ext cx="8604360" cy="441648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jda M. Thurnher et al. AJNR Am J Neuroradiol 2005;26:2275-228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